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12CB5-66D1-41F2-999D-80C5B4F99A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162F6-64ED-4AEB-8A0A-728A45FDF1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E349-9FBA-430A-A6A4-EB787EEA0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4B8A-4865-4190-AABA-184743541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3B9A-1FAA-4F16-A3B8-8E91817E8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9546-92DC-4147-B29C-CA9299C3E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128B0-B62B-4851-9BF9-ACD419FA1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C1298-B5B5-4679-BA03-3E5AD7A15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A9A67-E5EF-4707-9B85-7C76D8871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4ADAA-FBD6-4EFC-8BBE-ECCD19FB6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8D867-F486-480C-965B-892AFC504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78744-DD37-463A-86F3-44FE4BF01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BD44A-D6A1-4114-B5FF-D3A3EBAB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461B-1819-4853-AD01-D3EBDCF0D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746C1-A02C-44CF-8D8B-4B5735DB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49DD0-5C8C-4917-A32A-ACBEF1476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6250D-4A77-4507-8828-8FD5AD030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043CF-AE93-4144-B4E6-007482B3F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12114-588A-4F14-B157-8D06E3EE9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FFBA4-364B-4413-90F1-3D2310EF3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0313E-F6A1-427E-893E-A70ABA552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83E63-3B41-451A-A2C1-AFE5A1CCE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359F8-1C98-4F32-B5A7-294B7F9BD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FB1A7-3371-469A-A19F-8EEF706E7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24AD-ED14-4A67-A767-FCEBA52FA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4FAA5-704E-48B2-A7FA-B236640C5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91601-FCA8-4642-A091-8713FB518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05CC7-11B1-4529-9125-40C5E8300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71B77-E2DC-4F27-A4D1-ED40814FC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01014-9F4F-4DC0-B632-C2F8C2901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46CDB-952A-4EB9-907D-E33FD0A4A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A2D77-7A2D-40A6-AAD3-A9D45C862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22125-207A-49DF-B859-0172F0754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3DE4D-6E88-4980-8575-432428984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C9875-8675-4689-A99E-E653F8C13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9D45-D2E6-457A-AA64-A2D849EA4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6EAFE-0C29-4748-AFD1-C74B71DE3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DA30F-3988-454F-BB85-B8AB6A754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7FA6C-3D79-4A2F-89C5-B727930CB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85656-E651-4A2B-9CF7-DCA24E5AF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DAB56-CEEE-4779-B900-7EC2B740B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3E903-8BF0-4DCC-9898-FE3F99A45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978F6-4D2A-40FF-80A4-9CAF15BAC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FC8D7-AC78-46F6-859B-A4AFB7B54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080BC-3D4E-42DF-B265-C6962A4A7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8BC92D-4EEA-4B61-A6AB-54CB59283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5E38-1E97-4084-AF3F-014CAE3A8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E3E434-D71F-406C-9D7B-8031676D5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67EFF-9735-410F-9B29-B9552A524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29B085-A76C-43FE-B20E-4B80C1DDE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25CA1-CA6C-4690-9345-D7F80F2C7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70E152-EC6B-49B4-8404-71B2C4337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689E0-0CC0-42AA-BAE1-F4670C4AB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1C3731-8DAF-447B-A9AC-E7A5DC93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510A0-C2B7-4558-AA28-4FDB6F4B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8B9648-DE52-4DC3-9855-7854F6E27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BFAB42-F66B-484E-96EF-BD2487B10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784C-9DD2-4559-BA13-7D2BEFCAA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17F514-76B5-4FF9-982F-45B061490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54579F-F850-4575-8D0A-73C266C06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2E4CAC-A9C2-4A1A-9D1F-1E1E47874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EDFC08-26B5-415B-A155-624916F6A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4326DA-F97C-42A9-917B-B4C2A13CE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BDC6A0-717F-42EB-97D6-69DDABFAF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64B9B4-4CA5-47F5-962E-7661CF07D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22BE66-EFD6-462D-A9CC-DB9F542A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D98C01-3904-4086-BA42-8955490FF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CAC1B1-0077-4F8F-BC61-964D9D07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5A71-1642-453C-8225-D12A65CE9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040A44-0314-40CF-8294-9BACB83AA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1B3B4E-65DD-465C-98D4-A6C0E9D93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7C1C88-EABB-4430-9699-0CA205B96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ABC3FD-FAED-4F70-BB61-FB9F2AE55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2DABB9-3ACE-4DD1-8906-0184A9432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FCE3AC-E2F0-4810-BE2C-69C374027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F58DEF-CF4B-4920-89F3-E1638F404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080C97-CB74-4586-BA88-7AC27769D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9DA06B-B669-4BBA-9C3D-6ED2DFB27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80A272-3F50-4400-B910-02B423E82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2972-CB0F-4315-BD9A-95100324B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E24D3A-AEA8-487F-8AA4-349FD6B3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CBBA10-F039-4730-810D-04F7EA49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9B4544-97D7-46FE-8111-55927A0A8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D156C1-2A8F-49E9-99F8-C855F51BE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B7B7D4-832A-4964-9E06-00E5EFF10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7FB1BF-3C71-46A8-B0EF-4DF97CF6F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607DD0-0FCC-427B-8B0D-D413970BE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914F94-E3AA-4A8C-99EF-A50ACE99C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75C2CF-4E75-4693-998B-BC92D9824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00EA9D-F5E0-4C6F-99AD-F3A196C6D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E2A3-8949-4D43-9759-D93587393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E8AD3E-AF15-4CAB-BC61-AAF81B428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7F4158-6E9C-4C7B-9D20-0516E05C7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6460FA-DC99-4195-9AF2-E9D8FD1FA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2646C2-CE96-48FE-B84F-6F29E6E2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211385-2262-41EF-842A-F15436F59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AEF79B-1A95-4A12-A91F-671D7BDF8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05733C-3AF6-48EB-B0D6-B44CCC102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BBCAC-2E6B-4207-8507-F57BE6111D5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F285D-15C3-4333-B6BB-E52F1D8D1CE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7F5D3-5040-41D2-9354-23FE8DA8ED1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25098-E4F0-44E5-83AD-73ACD709F84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113A7-A146-47B1-B1BB-2DCAE51423B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71E1A-FF56-41EA-9D04-C88307E55E8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621BE-0C94-4C48-A9F7-404195C71F9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0C21B-7D92-494E-9BFF-9F08A1B79E5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682560" y="1384200"/>
            <a:ext cx="8205840" cy="22129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64646"/>
                </a:solidFill>
                <a:latin typeface="Lucida Sans Unicode"/>
              </a:rPr>
              <a:t>Team Five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64646"/>
                </a:solidFill>
                <a:latin typeface="Lucida Sans Unicode"/>
              </a:rPr>
              <a:t>Dominique Carroll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64646"/>
                </a:solidFill>
                <a:latin typeface="Lucida Sans Unicode"/>
              </a:rPr>
              <a:t>Julia Pressley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64646"/>
                </a:solidFill>
                <a:latin typeface="Lucida Sans Unicode"/>
              </a:rPr>
              <a:t>Rebecca Frusciante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64646"/>
                </a:solidFill>
                <a:latin typeface="Lucida Sans Unicode"/>
              </a:rPr>
              <a:t>Jessica McCollum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veloping academic language and background knowledge to succeed in mainstream class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ifferentiating instruction across proficiency level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tegrating students’ native languag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tegrating authentic materials and perspectives of native speakers of the target languag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veloping an audience and purpose for assignment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1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70588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upport for authentic oral and written practic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upport for practice in language subskill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esentation aid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upport for text producti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irtual field trips for modified language immersion experience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irtual Collaboration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ductivity and lesson design support for teacher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le 1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mputer-assisted language learning(CALL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 strategy that utilizes a variety of technology-based tools to support both ESL and foreign language learners in and out of class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nglish as a second language(ESL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esignates a student who is learning English after achieving proficiency in another native language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reign Language(FL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 target language, or language of study, spoken mainly in other countries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Distributed language learning(DLL)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An online publishing strategy where students share their writings and learn together and work toward common purposes, with possibilities for negotiating form and meaning of language as they progress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English language learner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Individuals who are learning English as their majority language for everyday uses, employment, and educational purposes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Web-based language learning(WBLL)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A strategy in which teacher identifies pertinent web sites and resources for students to use to aid in their learning of a new language and related cultural lessons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17:59:04Z</dcterms:created>
  <dc:creator>Dominique</dc:creator>
  <dc:description/>
  <dc:language>en-US</dc:language>
  <cp:lastModifiedBy>Dominique</cp:lastModifiedBy>
  <dcterms:modified xsi:type="dcterms:W3CDTF">2010-04-07T18:27:26Z</dcterms:modified>
  <cp:revision>3</cp:revision>
  <dc:subject/>
  <dc:title>Chapter 10: Technology in Foreign and Second Language Instruction</dc:title>
</cp:coreProperties>
</file>